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80625" cy="7199313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C0DF-F943-4133-AABF-78F08E12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720" y="416484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3F0-DBE4-49D7-909F-59E5FC64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5376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C49-5E11-4C75-B17B-69503E2B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7228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984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72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7228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3984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323-6729-4611-9D7B-6909AD80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BBE5-8221-4602-A78E-61DD040D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3A2E-6AF3-49A3-8938-06DA4D2D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6230-D846-41DE-A0BC-E9BB4265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B76B-3D0D-4C41-B835-BAF61ADA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F856-17F9-42AD-91AE-3FFDCC9D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04720" y="29160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899E-CF22-4BB4-81AF-143569C3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26F3-4992-42C7-AA55-9835D177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120-8C2B-4ED0-91B6-7E45DEA2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5376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0157-D851-4951-B97B-3C22354B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5170-59E8-4CC9-8B0C-954D1F99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720" y="416484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1ABE-B8BD-4962-B961-F995E62E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5376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73EF-4260-49FD-8AB2-CBB327AB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7228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39840" y="167940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472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7228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39840" y="4164840"/>
            <a:ext cx="292104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A010-4A4A-40CF-B825-3E29AF5A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E7C-93BB-4D82-9E25-EEFF8A1F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150-20CB-4F0D-89DC-FE9D71A9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CD40-63A8-4E17-895A-E1A0E68F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4720" y="29160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1C6-9305-451C-A5D7-CCF777ED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776-2542-4FF1-BC37-05835B89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53760" y="416484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47C-D4D6-4EB5-986F-18D38FA5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679400"/>
            <a:ext cx="442728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720" y="4164840"/>
            <a:ext cx="9072720" cy="2269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660-8A56-4C3D-AE00-8444B8A4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10085040" cy="7194240"/>
            <a:chOff x="1440" y="0"/>
            <a:chExt cx="10085040" cy="7194240"/>
          </a:xfrm>
        </p:grpSpPr>
        <p:sp>
          <p:nvSpPr>
            <p:cNvPr id="1" name="Freeform 3"/>
            <p:cNvSpPr/>
            <p:nvPr/>
          </p:nvSpPr>
          <p:spPr>
            <a:xfrm>
              <a:off x="8828280" y="4377240"/>
              <a:ext cx="1258200" cy="2817000"/>
            </a:xfrm>
            <a:custGeom>
              <a:avLst/>
              <a:gdLst>
                <a:gd name="textAreaLeft" fmla="*/ 0 w 1258200"/>
                <a:gd name="textAreaRight" fmla="*/ 1258560 w 12582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9425160" y="6324120"/>
              <a:ext cx="661320" cy="87012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870120"/>
                <a:gd name="textAreaBottom" fmla="*/ 870120 h 8701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939240" y="7024680"/>
              <a:ext cx="146880" cy="169560"/>
            </a:xfrm>
            <a:custGeom>
              <a:avLst/>
              <a:gdLst>
                <a:gd name="textAreaLeft" fmla="*/ 0 w 146880"/>
                <a:gd name="textAreaRight" fmla="*/ 146880 w 146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503640" y="0"/>
              <a:ext cx="8920800" cy="7193880"/>
              <a:chOff x="503640" y="0"/>
              <a:chExt cx="8920800" cy="719388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880160" y="0"/>
                <a:ext cx="125640" cy="719388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405040" y="0"/>
                <a:ext cx="304200" cy="71938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872320" y="0"/>
                <a:ext cx="589680" cy="7193880"/>
              </a:xfrm>
              <a:custGeom>
                <a:avLst/>
                <a:gdLst>
                  <a:gd name="textAreaLeft" fmla="*/ 0 w 589680"/>
                  <a:gd name="textAreaRight" fmla="*/ 590040 w 5896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432120" y="0"/>
                <a:ext cx="747000" cy="7193880"/>
              </a:xfrm>
              <a:custGeom>
                <a:avLst/>
                <a:gdLst>
                  <a:gd name="textAreaLeft" fmla="*/ 0 w 747000"/>
                  <a:gd name="textAreaRight" fmla="*/ 747360 w 7470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904800" y="0"/>
                <a:ext cx="975960" cy="7193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7427880" y="0"/>
                <a:ext cx="1207440" cy="7193880"/>
              </a:xfrm>
              <a:custGeom>
                <a:avLst/>
                <a:gdLst>
                  <a:gd name="textAreaLeft" fmla="*/ 0 w 1207440"/>
                  <a:gd name="textAreaRight" fmla="*/ 1207800 w 12074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912800" y="0"/>
                <a:ext cx="1511640" cy="719388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197600" y="0"/>
                <a:ext cx="264240" cy="71938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441600" y="0"/>
                <a:ext cx="524880" cy="7193880"/>
              </a:xfrm>
              <a:custGeom>
                <a:avLst/>
                <a:gdLst>
                  <a:gd name="textAreaLeft" fmla="*/ 0 w 524880"/>
                  <a:gd name="textAreaRight" fmla="*/ 525240 w 5248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739960" y="0"/>
                <a:ext cx="743400" cy="7193880"/>
              </a:xfrm>
              <a:custGeom>
                <a:avLst/>
                <a:gdLst>
                  <a:gd name="textAreaLeft" fmla="*/ 0 w 743400"/>
                  <a:gd name="textAreaRight" fmla="*/ 743760 w 7434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973160" y="0"/>
                <a:ext cx="1006200" cy="7193880"/>
              </a:xfrm>
              <a:custGeom>
                <a:avLst/>
                <a:gdLst>
                  <a:gd name="textAreaLeft" fmla="*/ 0 w 1006200"/>
                  <a:gd name="textAreaRight" fmla="*/ 1006560 w 10062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222560" y="0"/>
                <a:ext cx="1289520" cy="71938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503640" y="0"/>
                <a:ext cx="1469520" cy="7193880"/>
              </a:xfrm>
              <a:custGeom>
                <a:avLst/>
                <a:gdLst>
                  <a:gd name="textAreaLeft" fmla="*/ 0 w 1469520"/>
                  <a:gd name="textAreaRight" fmla="*/ 1469880 w 146952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10080" y="4835880"/>
              <a:ext cx="1060560" cy="23583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2358360"/>
                <a:gd name="textAreaBottom" fmla="*/ 2358720 h 235836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0080" y="6484320"/>
              <a:ext cx="398880" cy="70992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357400" y="0"/>
              <a:ext cx="1721880" cy="2977200"/>
            </a:xfrm>
            <a:custGeom>
              <a:avLst/>
              <a:gdLst>
                <a:gd name="textAreaLeft" fmla="*/ 0 w 1721880"/>
                <a:gd name="textAreaRight" fmla="*/ 1722240 w 1721880"/>
                <a:gd name="textAreaTop" fmla="*/ 0 h 2977200"/>
                <a:gd name="textAreaBottom" fmla="*/ 2977560 h 29772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821080" y="0"/>
              <a:ext cx="1258200" cy="1408320"/>
            </a:xfrm>
            <a:custGeom>
              <a:avLst/>
              <a:gdLst>
                <a:gd name="textAreaLeft" fmla="*/ 0 w 1258200"/>
                <a:gd name="textAreaRight" fmla="*/ 1258560 w 125820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365400" y="0"/>
              <a:ext cx="713880" cy="6901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0080" y="0"/>
              <a:ext cx="1496160" cy="2348640"/>
            </a:xfrm>
            <a:custGeom>
              <a:avLst/>
              <a:gdLst>
                <a:gd name="textAreaLeft" fmla="*/ 0 w 1496160"/>
                <a:gd name="textAreaRight" fmla="*/ 1496520 w 1496160"/>
                <a:gd name="textAreaTop" fmla="*/ 0 h 2348640"/>
                <a:gd name="textAreaBottom" fmla="*/ 2349000 h 234864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0080" y="0"/>
              <a:ext cx="1028880" cy="99828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0080" y="0"/>
              <a:ext cx="470880" cy="41976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582080"/>
              <a:ext cx="100764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927240"/>
              <a:ext cx="100764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52372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53400"/>
              <a:ext cx="10076040" cy="2617920"/>
              <a:chOff x="1440" y="653400"/>
              <a:chExt cx="10076040" cy="26179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30644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27132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61504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96128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5340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5476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8924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504360" y="6556320"/>
            <a:ext cx="235116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444840" y="6561000"/>
            <a:ext cx="319104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224480" y="6556320"/>
            <a:ext cx="235260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BC1F-C2DF-46E6-829A-14E8449B6D3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801720" indent="-308160"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2" marL="1235160" indent="-247680">
              <a:spcBef>
                <a:spcPts val="876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3" marL="1728720" indent="-247680">
              <a:spcBef>
                <a:spcPts val="876"/>
              </a:spcBef>
              <a:buClr>
                <a:srgbClr val="ccecff"/>
              </a:buClr>
              <a:buFont typeface="Verdana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4" marL="2222640" indent="-247680">
              <a:spcBef>
                <a:spcPts val="876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5" marL="2222640" indent="-24768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6" marL="2222640" indent="-24768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10085040" cy="7194240"/>
            <a:chOff x="0" y="0"/>
            <a:chExt cx="10085040" cy="7194240"/>
          </a:xfrm>
        </p:grpSpPr>
        <p:sp>
          <p:nvSpPr>
            <p:cNvPr id="79" name="Freeform 3"/>
            <p:cNvSpPr/>
            <p:nvPr/>
          </p:nvSpPr>
          <p:spPr>
            <a:xfrm>
              <a:off x="8826840" y="4377240"/>
              <a:ext cx="1258200" cy="2817000"/>
            </a:xfrm>
            <a:custGeom>
              <a:avLst/>
              <a:gdLst>
                <a:gd name="textAreaLeft" fmla="*/ 0 w 1258200"/>
                <a:gd name="textAreaRight" fmla="*/ 1258560 w 12582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9423720" y="6324120"/>
              <a:ext cx="661320" cy="87012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870120"/>
                <a:gd name="textAreaBottom" fmla="*/ 870120 h 8701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937800" y="7024680"/>
              <a:ext cx="146880" cy="169560"/>
            </a:xfrm>
            <a:custGeom>
              <a:avLst/>
              <a:gdLst>
                <a:gd name="textAreaLeft" fmla="*/ 0 w 146880"/>
                <a:gd name="textAreaRight" fmla="*/ 146880 w 146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502200" y="0"/>
              <a:ext cx="8920800" cy="7193880"/>
              <a:chOff x="502200" y="0"/>
              <a:chExt cx="8920800" cy="719388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878720" y="0"/>
                <a:ext cx="125640" cy="719388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5403600" y="0"/>
                <a:ext cx="304200" cy="7193880"/>
              </a:xfrm>
              <a:custGeom>
                <a:avLst/>
                <a:gdLst>
                  <a:gd name="textAreaLeft" fmla="*/ 0 w 304200"/>
                  <a:gd name="textAreaRight" fmla="*/ 304560 w 3042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870880" y="0"/>
                <a:ext cx="589680" cy="7193880"/>
              </a:xfrm>
              <a:custGeom>
                <a:avLst/>
                <a:gdLst>
                  <a:gd name="textAreaLeft" fmla="*/ 0 w 589680"/>
                  <a:gd name="textAreaRight" fmla="*/ 590040 w 5896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6430680" y="0"/>
                <a:ext cx="747000" cy="7193880"/>
              </a:xfrm>
              <a:custGeom>
                <a:avLst/>
                <a:gdLst>
                  <a:gd name="textAreaLeft" fmla="*/ 0 w 747000"/>
                  <a:gd name="textAreaRight" fmla="*/ 747360 w 7470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903360" y="0"/>
                <a:ext cx="975960" cy="7193880"/>
              </a:xfrm>
              <a:custGeom>
                <a:avLst/>
                <a:gdLst>
                  <a:gd name="textAreaLeft" fmla="*/ 0 w 975960"/>
                  <a:gd name="textAreaRight" fmla="*/ 976320 w 9759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7426440" y="0"/>
                <a:ext cx="1207440" cy="7193880"/>
              </a:xfrm>
              <a:custGeom>
                <a:avLst/>
                <a:gdLst>
                  <a:gd name="textAreaLeft" fmla="*/ 0 w 1207440"/>
                  <a:gd name="textAreaRight" fmla="*/ 1207800 w 12074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911360" y="0"/>
                <a:ext cx="1511640" cy="7193880"/>
              </a:xfrm>
              <a:custGeom>
                <a:avLst/>
                <a:gdLst>
                  <a:gd name="textAreaLeft" fmla="*/ 0 w 1511640"/>
                  <a:gd name="textAreaRight" fmla="*/ 1512000 w 1511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4196160" y="0"/>
                <a:ext cx="264240" cy="7193880"/>
              </a:xfrm>
              <a:custGeom>
                <a:avLst/>
                <a:gdLst>
                  <a:gd name="textAreaLeft" fmla="*/ 0 w 264240"/>
                  <a:gd name="textAreaRight" fmla="*/ 264600 w 2642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440160" y="0"/>
                <a:ext cx="524880" cy="7193880"/>
              </a:xfrm>
              <a:custGeom>
                <a:avLst/>
                <a:gdLst>
                  <a:gd name="textAreaLeft" fmla="*/ 0 w 524880"/>
                  <a:gd name="textAreaRight" fmla="*/ 525240 w 5248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738520" y="0"/>
                <a:ext cx="743400" cy="7193880"/>
              </a:xfrm>
              <a:custGeom>
                <a:avLst/>
                <a:gdLst>
                  <a:gd name="textAreaLeft" fmla="*/ 0 w 743400"/>
                  <a:gd name="textAreaRight" fmla="*/ 743760 w 7434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971720" y="0"/>
                <a:ext cx="1006200" cy="7193880"/>
              </a:xfrm>
              <a:custGeom>
                <a:avLst/>
                <a:gdLst>
                  <a:gd name="textAreaLeft" fmla="*/ 0 w 1006200"/>
                  <a:gd name="textAreaRight" fmla="*/ 1006560 w 10062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221120" y="0"/>
                <a:ext cx="1289520" cy="71938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502200" y="0"/>
                <a:ext cx="1469520" cy="7193880"/>
              </a:xfrm>
              <a:custGeom>
                <a:avLst/>
                <a:gdLst>
                  <a:gd name="textAreaLeft" fmla="*/ 0 w 1469520"/>
                  <a:gd name="textAreaRight" fmla="*/ 1469880 w 146952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8640" y="4835880"/>
              <a:ext cx="1060560" cy="23583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2358360"/>
                <a:gd name="textAreaBottom" fmla="*/ 2358720 h 235836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8640" y="6484320"/>
              <a:ext cx="398880" cy="70992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8355960" y="0"/>
              <a:ext cx="1721880" cy="2977200"/>
            </a:xfrm>
            <a:custGeom>
              <a:avLst/>
              <a:gdLst>
                <a:gd name="textAreaLeft" fmla="*/ 0 w 1721880"/>
                <a:gd name="textAreaRight" fmla="*/ 1722240 w 1721880"/>
                <a:gd name="textAreaTop" fmla="*/ 0 h 2977200"/>
                <a:gd name="textAreaBottom" fmla="*/ 2977560 h 29772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819640" y="0"/>
              <a:ext cx="1258200" cy="1408320"/>
            </a:xfrm>
            <a:custGeom>
              <a:avLst/>
              <a:gdLst>
                <a:gd name="textAreaLeft" fmla="*/ 0 w 1258200"/>
                <a:gd name="textAreaRight" fmla="*/ 1258560 w 125820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9363960" y="0"/>
              <a:ext cx="713880" cy="690120"/>
            </a:xfrm>
            <a:custGeom>
              <a:avLst/>
              <a:gdLst>
                <a:gd name="textAreaLeft" fmla="*/ 0 w 713880"/>
                <a:gd name="textAreaRight" fmla="*/ 714240 w 71388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8640" y="0"/>
              <a:ext cx="1496160" cy="2348640"/>
            </a:xfrm>
            <a:custGeom>
              <a:avLst/>
              <a:gdLst>
                <a:gd name="textAreaLeft" fmla="*/ 0 w 1496160"/>
                <a:gd name="textAreaRight" fmla="*/ 1496520 w 1496160"/>
                <a:gd name="textAreaTop" fmla="*/ 0 h 2348640"/>
                <a:gd name="textAreaBottom" fmla="*/ 2349000 h 234864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8640" y="0"/>
              <a:ext cx="1028880" cy="99828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8640" y="0"/>
              <a:ext cx="470880" cy="41976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582080"/>
              <a:ext cx="100764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927240"/>
              <a:ext cx="100764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52372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53400"/>
              <a:ext cx="10076040" cy="2617920"/>
              <a:chOff x="0" y="653400"/>
              <a:chExt cx="10076040" cy="26179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30644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27132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61504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96128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53400"/>
                <a:ext cx="100760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5476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892480"/>
              <a:ext cx="100764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291600"/>
            <a:ext cx="9072720" cy="1197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 anchorCtr="1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504720" y="1679400"/>
            <a:ext cx="9072720" cy="4757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1" marL="801720" indent="-308160"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2" marL="1235160" indent="-247680">
              <a:spcBef>
                <a:spcPts val="876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3" marL="1728720" indent="-247680">
              <a:spcBef>
                <a:spcPts val="876"/>
              </a:spcBef>
              <a:buClr>
                <a:srgbClr val="ccecff"/>
              </a:buClr>
              <a:buFont typeface="Verdana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4" marL="2222640" indent="-247680">
              <a:spcBef>
                <a:spcPts val="876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5" marL="2222640" indent="-24768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  <a:p>
            <a:pPr lvl="6" marL="2222640" indent="-24768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504360" y="6556320"/>
            <a:ext cx="235116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444840" y="6561000"/>
            <a:ext cx="319104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224480" y="6556320"/>
            <a:ext cx="2352600" cy="4795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F3F8-3C80-47B6-8CC1-E4B4C667510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4"/>
          <p:cNvSpPr/>
          <p:nvPr/>
        </p:nvSpPr>
        <p:spPr>
          <a:xfrm>
            <a:off x="3389400" y="441360"/>
            <a:ext cx="4603680" cy="281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595947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200" spc="-1" strike="noStrike">
                <a:solidFill>
                  <a:srgbClr val="ff0000"/>
                </a:solidFill>
                <a:latin typeface="MAC C Swiss"/>
                <a:ea typeface="Arial"/>
              </a:rPr>
              <a:t>ОДБОР</a:t>
            </a:r>
            <a:r>
              <a:rPr b="0" lang="mk-MK" sz="1200" spc="-1" strike="noStrike">
                <a:solidFill>
                  <a:srgbClr val="ff0000"/>
                </a:solidFill>
                <a:latin typeface="MAC C Swiss"/>
                <a:ea typeface="Arial"/>
              </a:rPr>
              <a:t> </a:t>
            </a:r>
            <a:r>
              <a:rPr b="1" lang="mk-MK" sz="1200" spc="-1" strike="noStrike">
                <a:solidFill>
                  <a:srgbClr val="ff0000"/>
                </a:solidFill>
                <a:latin typeface="MAC C Swiss"/>
                <a:ea typeface="Arial"/>
              </a:rPr>
              <a:t>НА ДИРЕКТОРИ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4103640" y="936720"/>
            <a:ext cx="2881440" cy="281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MAC C Swiss"/>
              </a:rPr>
              <a:t>GENERALEN</a:t>
            </a:r>
            <a:r>
              <a:rPr b="0" lang="en-US" sz="1200" spc="-1" strike="noStrike">
                <a:solidFill>
                  <a:srgbClr val="ff0000"/>
                </a:solidFill>
                <a:latin typeface="MAC C Swiss"/>
              </a:rPr>
              <a:t>  </a:t>
            </a:r>
            <a:r>
              <a:rPr b="1" lang="en-US" sz="1200" spc="-1" strike="noStrike">
                <a:solidFill>
                  <a:srgbClr val="ff0000"/>
                </a:solidFill>
                <a:latin typeface="MAC C Swiss"/>
              </a:rPr>
              <a:t>DIREKTO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8136000" y="504720"/>
            <a:ext cx="1511280" cy="403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0000"/>
                </a:solidFill>
                <a:latin typeface="MAC C Swiss"/>
              </a:rPr>
              <a:t>ПРЕТСТАВНИК НА РАКОВОДСТВОТО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5688000" y="720720"/>
            <a:ext cx="0" cy="7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5688000" y="792000"/>
            <a:ext cx="24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144360" y="216000"/>
            <a:ext cx="986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Line 24"/>
          <p:cNvSpPr/>
          <p:nvPr/>
        </p:nvSpPr>
        <p:spPr>
          <a:xfrm flipV="1">
            <a:off x="1440000" y="431640"/>
            <a:ext cx="0" cy="1222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Line 25"/>
          <p:cNvSpPr/>
          <p:nvPr/>
        </p:nvSpPr>
        <p:spPr>
          <a:xfrm flipV="1">
            <a:off x="10009080" y="217080"/>
            <a:ext cx="0" cy="1438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26"/>
          <p:cNvSpPr/>
          <p:nvPr/>
        </p:nvSpPr>
        <p:spPr>
          <a:xfrm>
            <a:off x="2448000" y="1584360"/>
            <a:ext cx="1079280" cy="24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0000"/>
                </a:solidFill>
                <a:latin typeface="MAC C Swiss"/>
              </a:rPr>
              <a:t>ТЕХНИЧКИ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6769080" y="1584360"/>
            <a:ext cx="1440000" cy="396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MAC C Swiss"/>
              </a:rPr>
              <a:t>OP[TO - KADROV  I PRAVEN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29"/>
          <p:cNvSpPr/>
          <p:nvPr/>
        </p:nvSpPr>
        <p:spPr>
          <a:xfrm>
            <a:off x="4464000" y="1584360"/>
            <a:ext cx="1871640" cy="24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0000"/>
                </a:solidFill>
                <a:latin typeface="MAC C Swiss"/>
              </a:rPr>
              <a:t>ФИНАНСОВ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Line 36"/>
          <p:cNvSpPr/>
          <p:nvPr/>
        </p:nvSpPr>
        <p:spPr>
          <a:xfrm>
            <a:off x="2952720" y="151272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1440000" y="1582560"/>
            <a:ext cx="0" cy="223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Line 54"/>
          <p:cNvSpPr/>
          <p:nvPr/>
        </p:nvSpPr>
        <p:spPr>
          <a:xfrm>
            <a:off x="1440000" y="374508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Line 55"/>
          <p:cNvSpPr/>
          <p:nvPr/>
        </p:nvSpPr>
        <p:spPr>
          <a:xfrm>
            <a:off x="10009080" y="1870200"/>
            <a:ext cx="0" cy="223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7"/>
          <p:cNvSpPr/>
          <p:nvPr/>
        </p:nvSpPr>
        <p:spPr>
          <a:xfrm>
            <a:off x="216000" y="431640"/>
            <a:ext cx="1079280" cy="594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100" spc="-1" strike="noStrike">
                <a:solidFill>
                  <a:srgbClr val="ffffff"/>
                </a:solidFill>
                <a:latin typeface="MAC C Swiss"/>
              </a:rPr>
              <a:t>ВРВНО РАКОВОД -СТ ВО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58"/>
          <p:cNvSpPr/>
          <p:nvPr/>
        </p:nvSpPr>
        <p:spPr>
          <a:xfrm>
            <a:off x="216000" y="1584360"/>
            <a:ext cx="1079280" cy="2592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100" spc="-1" strike="noStrike">
                <a:solidFill>
                  <a:srgbClr val="ffffff"/>
                </a:solidFill>
                <a:latin typeface="MAC C Swiss"/>
              </a:rPr>
              <a:t>СЕКТОРИ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59"/>
          <p:cNvSpPr/>
          <p:nvPr/>
        </p:nvSpPr>
        <p:spPr>
          <a:xfrm>
            <a:off x="216000" y="2376360"/>
            <a:ext cx="1079280" cy="2592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100" spc="-1" strike="noStrike">
                <a:solidFill>
                  <a:srgbClr val="ffffff"/>
                </a:solidFill>
                <a:latin typeface="MAC C Swiss"/>
              </a:rPr>
              <a:t>СЛУЖБИ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216000" y="3313080"/>
            <a:ext cx="1079280" cy="2440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ffff"/>
                </a:solidFill>
                <a:latin typeface="MAC C Swiss"/>
              </a:rPr>
              <a:t>ОДДЕЛЕНИЈА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62"/>
          <p:cNvSpPr/>
          <p:nvPr/>
        </p:nvSpPr>
        <p:spPr>
          <a:xfrm>
            <a:off x="216000" y="4105440"/>
            <a:ext cx="1079280" cy="39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ffff"/>
                </a:solidFill>
                <a:latin typeface="MAC C Swiss"/>
              </a:rPr>
              <a:t>РАБОТНИ ЕДИНИЦИ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63"/>
          <p:cNvSpPr/>
          <p:nvPr/>
        </p:nvSpPr>
        <p:spPr>
          <a:xfrm>
            <a:off x="1728720" y="4105440"/>
            <a:ext cx="1008000" cy="398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ГРАДИЛИШТ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70"/>
          <p:cNvSpPr/>
          <p:nvPr/>
        </p:nvSpPr>
        <p:spPr>
          <a:xfrm>
            <a:off x="2952720" y="4105440"/>
            <a:ext cx="1008000" cy="414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ГРАДИЛИШТ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71"/>
          <p:cNvSpPr/>
          <p:nvPr/>
        </p:nvSpPr>
        <p:spPr>
          <a:xfrm>
            <a:off x="4105440" y="4105440"/>
            <a:ext cx="1081080" cy="213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МЕХАНИЗАЦИЈ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72"/>
          <p:cNvSpPr/>
          <p:nvPr/>
        </p:nvSpPr>
        <p:spPr>
          <a:xfrm>
            <a:off x="5327640" y="4105440"/>
            <a:ext cx="1008000" cy="213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ЗАНАТСК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73"/>
          <p:cNvSpPr/>
          <p:nvPr/>
        </p:nvSpPr>
        <p:spPr>
          <a:xfrm>
            <a:off x="6480000" y="4105440"/>
            <a:ext cx="1008360" cy="213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АРМИРАЧК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74"/>
          <p:cNvSpPr/>
          <p:nvPr/>
        </p:nvSpPr>
        <p:spPr>
          <a:xfrm>
            <a:off x="7632720" y="4105440"/>
            <a:ext cx="1008000" cy="213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800" spc="-1" strike="noStrike">
                <a:solidFill>
                  <a:srgbClr val="ff0000"/>
                </a:solidFill>
                <a:latin typeface="MAC C Swiss"/>
              </a:rPr>
              <a:t>БЕТОНК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76"/>
          <p:cNvSpPr/>
          <p:nvPr/>
        </p:nvSpPr>
        <p:spPr>
          <a:xfrm>
            <a:off x="1800360" y="4545000"/>
            <a:ext cx="93636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ОБЈЕКТ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78"/>
          <p:cNvSpPr/>
          <p:nvPr/>
        </p:nvSpPr>
        <p:spPr>
          <a:xfrm>
            <a:off x="3024360" y="4537080"/>
            <a:ext cx="93636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ОБЈЕКТ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81"/>
          <p:cNvSpPr/>
          <p:nvPr/>
        </p:nvSpPr>
        <p:spPr>
          <a:xfrm>
            <a:off x="2736720" y="4248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84"/>
          <p:cNvSpPr/>
          <p:nvPr/>
        </p:nvSpPr>
        <p:spPr>
          <a:xfrm>
            <a:off x="2303640" y="5905440"/>
            <a:ext cx="93636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СТОПАНСКИ ДВОР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5"/>
          <p:cNvSpPr/>
          <p:nvPr/>
        </p:nvSpPr>
        <p:spPr>
          <a:xfrm>
            <a:off x="2808360" y="4248000"/>
            <a:ext cx="0" cy="165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Line 86"/>
          <p:cNvSpPr/>
          <p:nvPr/>
        </p:nvSpPr>
        <p:spPr>
          <a:xfrm>
            <a:off x="2952720" y="432108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Line 89"/>
          <p:cNvSpPr/>
          <p:nvPr/>
        </p:nvSpPr>
        <p:spPr>
          <a:xfrm>
            <a:off x="2952720" y="4680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90"/>
          <p:cNvSpPr/>
          <p:nvPr/>
        </p:nvSpPr>
        <p:spPr>
          <a:xfrm>
            <a:off x="1728720" y="4680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91"/>
          <p:cNvSpPr/>
          <p:nvPr/>
        </p:nvSpPr>
        <p:spPr>
          <a:xfrm>
            <a:off x="1727280" y="432108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95"/>
          <p:cNvSpPr/>
          <p:nvPr/>
        </p:nvSpPr>
        <p:spPr>
          <a:xfrm>
            <a:off x="4248000" y="453708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[KA MEHANIZAC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97"/>
          <p:cNvSpPr/>
          <p:nvPr/>
        </p:nvSpPr>
        <p:spPr>
          <a:xfrm>
            <a:off x="4248000" y="5113440"/>
            <a:ext cx="9385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КРАНОВ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248000" y="5400720"/>
            <a:ext cx="9385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АГАЦИ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Line 99"/>
          <p:cNvSpPr/>
          <p:nvPr/>
        </p:nvSpPr>
        <p:spPr>
          <a:xfrm>
            <a:off x="4103640" y="432108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Line 100"/>
          <p:cNvSpPr/>
          <p:nvPr/>
        </p:nvSpPr>
        <p:spPr>
          <a:xfrm>
            <a:off x="4103640" y="4680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Line 101"/>
          <p:cNvSpPr/>
          <p:nvPr/>
        </p:nvSpPr>
        <p:spPr>
          <a:xfrm>
            <a:off x="4103640" y="4968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Line 102"/>
          <p:cNvSpPr/>
          <p:nvPr/>
        </p:nvSpPr>
        <p:spPr>
          <a:xfrm>
            <a:off x="4103640" y="5256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Line 103"/>
          <p:cNvSpPr/>
          <p:nvPr/>
        </p:nvSpPr>
        <p:spPr>
          <a:xfrm>
            <a:off x="4103640" y="55450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104"/>
          <p:cNvSpPr/>
          <p:nvPr/>
        </p:nvSpPr>
        <p:spPr>
          <a:xfrm>
            <a:off x="5400720" y="453708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ЕЛЕКТРИК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105"/>
          <p:cNvSpPr/>
          <p:nvPr/>
        </p:nvSpPr>
        <p:spPr>
          <a:xfrm>
            <a:off x="5400720" y="482436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СТОЛАРИЈ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106"/>
          <p:cNvSpPr/>
          <p:nvPr/>
        </p:nvSpPr>
        <p:spPr>
          <a:xfrm>
            <a:off x="5400720" y="511344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ВОДОВОД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 Box 107"/>
          <p:cNvSpPr/>
          <p:nvPr/>
        </p:nvSpPr>
        <p:spPr>
          <a:xfrm>
            <a:off x="5400720" y="540072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ГРЕЕЊ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108"/>
          <p:cNvSpPr/>
          <p:nvPr/>
        </p:nvSpPr>
        <p:spPr>
          <a:xfrm>
            <a:off x="5400720" y="568800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ПОДОВ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109"/>
          <p:cNvSpPr/>
          <p:nvPr/>
        </p:nvSpPr>
        <p:spPr>
          <a:xfrm>
            <a:off x="5400720" y="597708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АГАЦИ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Line 110"/>
          <p:cNvSpPr/>
          <p:nvPr/>
        </p:nvSpPr>
        <p:spPr>
          <a:xfrm>
            <a:off x="5327640" y="432108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Line 111"/>
          <p:cNvSpPr/>
          <p:nvPr/>
        </p:nvSpPr>
        <p:spPr>
          <a:xfrm>
            <a:off x="5327640" y="468000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Line 112"/>
          <p:cNvSpPr/>
          <p:nvPr/>
        </p:nvSpPr>
        <p:spPr>
          <a:xfrm>
            <a:off x="5327640" y="496872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Line 113"/>
          <p:cNvSpPr/>
          <p:nvPr/>
        </p:nvSpPr>
        <p:spPr>
          <a:xfrm>
            <a:off x="5327640" y="5256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Line 114"/>
          <p:cNvSpPr/>
          <p:nvPr/>
        </p:nvSpPr>
        <p:spPr>
          <a:xfrm>
            <a:off x="5327640" y="55450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Line 115"/>
          <p:cNvSpPr/>
          <p:nvPr/>
        </p:nvSpPr>
        <p:spPr>
          <a:xfrm>
            <a:off x="5327640" y="5832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Line 116"/>
          <p:cNvSpPr/>
          <p:nvPr/>
        </p:nvSpPr>
        <p:spPr>
          <a:xfrm>
            <a:off x="5329080" y="612144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117"/>
          <p:cNvSpPr/>
          <p:nvPr/>
        </p:nvSpPr>
        <p:spPr>
          <a:xfrm>
            <a:off x="6480000" y="432108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118"/>
          <p:cNvSpPr/>
          <p:nvPr/>
        </p:nvSpPr>
        <p:spPr>
          <a:xfrm>
            <a:off x="6553080" y="453708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IPREMA NA </a:t>
            </a:r>
            <a:r>
              <a:rPr b="0" lang="mk-MK" sz="800" spc="-1" strike="noStrike">
                <a:solidFill>
                  <a:srgbClr val="ffffff"/>
                </a:solidFill>
                <a:latin typeface="Arial"/>
              </a:rPr>
              <a:t>АРМАТУР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119"/>
          <p:cNvSpPr/>
          <p:nvPr/>
        </p:nvSpPr>
        <p:spPr>
          <a:xfrm>
            <a:off x="6553080" y="489600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</a:t>
            </a: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ONTA@A NA ARMATUR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Line 120"/>
          <p:cNvSpPr/>
          <p:nvPr/>
        </p:nvSpPr>
        <p:spPr>
          <a:xfrm>
            <a:off x="6480000" y="475308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Line 121"/>
          <p:cNvSpPr/>
          <p:nvPr/>
        </p:nvSpPr>
        <p:spPr>
          <a:xfrm>
            <a:off x="6481800" y="511344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Line 123"/>
          <p:cNvSpPr/>
          <p:nvPr/>
        </p:nvSpPr>
        <p:spPr>
          <a:xfrm>
            <a:off x="6335640" y="4248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Text Box 128"/>
          <p:cNvSpPr/>
          <p:nvPr/>
        </p:nvSpPr>
        <p:spPr>
          <a:xfrm>
            <a:off x="7704000" y="4392720"/>
            <a:ext cx="936720" cy="456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OIZVOD-STVO NA </a:t>
            </a:r>
            <a:r>
              <a:rPr b="0" lang="mk-MK" sz="800" spc="-1" strike="noStrike">
                <a:solidFill>
                  <a:srgbClr val="ffffff"/>
                </a:solidFill>
                <a:latin typeface="Arial"/>
              </a:rPr>
              <a:t>БЕТО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129"/>
          <p:cNvSpPr/>
          <p:nvPr/>
        </p:nvSpPr>
        <p:spPr>
          <a:xfrm>
            <a:off x="7704000" y="489600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БЕТОНСКИ ЕЛЕМЕНТИ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130"/>
          <p:cNvSpPr/>
          <p:nvPr/>
        </p:nvSpPr>
        <p:spPr>
          <a:xfrm>
            <a:off x="7704000" y="540072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СЕПАРАЦИЈА НА ПЕСОК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Line 131"/>
          <p:cNvSpPr/>
          <p:nvPr/>
        </p:nvSpPr>
        <p:spPr>
          <a:xfrm>
            <a:off x="7632720" y="439272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Line 132"/>
          <p:cNvSpPr/>
          <p:nvPr/>
        </p:nvSpPr>
        <p:spPr>
          <a:xfrm>
            <a:off x="7632720" y="47530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Line 133"/>
          <p:cNvSpPr/>
          <p:nvPr/>
        </p:nvSpPr>
        <p:spPr>
          <a:xfrm>
            <a:off x="7632720" y="51832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Line 134"/>
          <p:cNvSpPr/>
          <p:nvPr/>
        </p:nvSpPr>
        <p:spPr>
          <a:xfrm>
            <a:off x="7632720" y="554508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Line 135"/>
          <p:cNvSpPr/>
          <p:nvPr/>
        </p:nvSpPr>
        <p:spPr>
          <a:xfrm>
            <a:off x="1440000" y="3817800"/>
            <a:ext cx="0" cy="316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Line 136"/>
          <p:cNvSpPr/>
          <p:nvPr/>
        </p:nvSpPr>
        <p:spPr>
          <a:xfrm>
            <a:off x="216000" y="6985080"/>
            <a:ext cx="979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Line 137"/>
          <p:cNvSpPr/>
          <p:nvPr/>
        </p:nvSpPr>
        <p:spPr>
          <a:xfrm>
            <a:off x="10009080" y="4106880"/>
            <a:ext cx="0" cy="2878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Line 141"/>
          <p:cNvSpPr/>
          <p:nvPr/>
        </p:nvSpPr>
        <p:spPr>
          <a:xfrm>
            <a:off x="142920" y="216000"/>
            <a:ext cx="73080" cy="676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143"/>
          <p:cNvSpPr/>
          <p:nvPr/>
        </p:nvSpPr>
        <p:spPr>
          <a:xfrm>
            <a:off x="3024360" y="0"/>
            <a:ext cx="482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200" spc="-1" strike="noStrike">
                <a:solidFill>
                  <a:srgbClr val="ffffff"/>
                </a:solidFill>
                <a:latin typeface="MAC C Swiss"/>
              </a:rPr>
              <a:t>ДГ" БЕТОН" АД - СКОПЈЕ   СЕРТИФИЦИРАН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Line 144"/>
          <p:cNvSpPr/>
          <p:nvPr/>
        </p:nvSpPr>
        <p:spPr>
          <a:xfrm>
            <a:off x="223200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145"/>
          <p:cNvSpPr/>
          <p:nvPr/>
        </p:nvSpPr>
        <p:spPr>
          <a:xfrm>
            <a:off x="345600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Line 146"/>
          <p:cNvSpPr/>
          <p:nvPr/>
        </p:nvSpPr>
        <p:spPr>
          <a:xfrm>
            <a:off x="468000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Line 147"/>
          <p:cNvSpPr/>
          <p:nvPr/>
        </p:nvSpPr>
        <p:spPr>
          <a:xfrm>
            <a:off x="583236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Line 148"/>
          <p:cNvSpPr/>
          <p:nvPr/>
        </p:nvSpPr>
        <p:spPr>
          <a:xfrm>
            <a:off x="698508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Line 149"/>
          <p:cNvSpPr/>
          <p:nvPr/>
        </p:nvSpPr>
        <p:spPr>
          <a:xfrm>
            <a:off x="8136000" y="396072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Line 151"/>
          <p:cNvSpPr/>
          <p:nvPr/>
        </p:nvSpPr>
        <p:spPr>
          <a:xfrm>
            <a:off x="2232000" y="3960720"/>
            <a:ext cx="590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168"/>
          <p:cNvSpPr/>
          <p:nvPr/>
        </p:nvSpPr>
        <p:spPr>
          <a:xfrm>
            <a:off x="3024360" y="4896000"/>
            <a:ext cx="93636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HNI^KO ODDELENI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Line 169"/>
          <p:cNvSpPr/>
          <p:nvPr/>
        </p:nvSpPr>
        <p:spPr>
          <a:xfrm>
            <a:off x="5040360" y="3745080"/>
            <a:ext cx="0" cy="142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Line 170"/>
          <p:cNvSpPr/>
          <p:nvPr/>
        </p:nvSpPr>
        <p:spPr>
          <a:xfrm>
            <a:off x="1368360" y="1008000"/>
            <a:ext cx="0" cy="33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Line 171"/>
          <p:cNvSpPr/>
          <p:nvPr/>
        </p:nvSpPr>
        <p:spPr>
          <a:xfrm>
            <a:off x="1368360" y="432108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Line 172"/>
          <p:cNvSpPr/>
          <p:nvPr/>
        </p:nvSpPr>
        <p:spPr>
          <a:xfrm>
            <a:off x="1368360" y="1008000"/>
            <a:ext cx="7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 Box 174"/>
          <p:cNvSpPr/>
          <p:nvPr/>
        </p:nvSpPr>
        <p:spPr>
          <a:xfrm>
            <a:off x="4248000" y="5688000"/>
            <a:ext cx="9385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ОДРЖУВАЊ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Line 175"/>
          <p:cNvSpPr/>
          <p:nvPr/>
        </p:nvSpPr>
        <p:spPr>
          <a:xfrm>
            <a:off x="4103640" y="583236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Line 177"/>
          <p:cNvSpPr/>
          <p:nvPr/>
        </p:nvSpPr>
        <p:spPr>
          <a:xfrm>
            <a:off x="4103640" y="612144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180"/>
          <p:cNvSpPr/>
          <p:nvPr/>
        </p:nvSpPr>
        <p:spPr>
          <a:xfrm>
            <a:off x="6553080" y="532908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АГАЦИ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Line 182"/>
          <p:cNvSpPr/>
          <p:nvPr/>
        </p:nvSpPr>
        <p:spPr>
          <a:xfrm>
            <a:off x="6480000" y="5472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183"/>
          <p:cNvSpPr/>
          <p:nvPr/>
        </p:nvSpPr>
        <p:spPr>
          <a:xfrm>
            <a:off x="7704000" y="5761080"/>
            <a:ext cx="9367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МАГАЦИН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Line 186"/>
          <p:cNvSpPr/>
          <p:nvPr/>
        </p:nvSpPr>
        <p:spPr>
          <a:xfrm>
            <a:off x="7632720" y="5832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Line 188"/>
          <p:cNvSpPr/>
          <p:nvPr/>
        </p:nvSpPr>
        <p:spPr>
          <a:xfrm>
            <a:off x="7632720" y="6264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89"/>
          <p:cNvSpPr/>
          <p:nvPr/>
        </p:nvSpPr>
        <p:spPr>
          <a:xfrm>
            <a:off x="4248000" y="4896000"/>
            <a:ext cx="93852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RANSPORT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Line 190"/>
          <p:cNvSpPr/>
          <p:nvPr/>
        </p:nvSpPr>
        <p:spPr>
          <a:xfrm>
            <a:off x="1440000" y="388764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191"/>
          <p:cNvSpPr/>
          <p:nvPr/>
        </p:nvSpPr>
        <p:spPr>
          <a:xfrm>
            <a:off x="6553080" y="561672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HNI^KO ODDELENI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Line 192"/>
          <p:cNvSpPr/>
          <p:nvPr/>
        </p:nvSpPr>
        <p:spPr>
          <a:xfrm>
            <a:off x="6480000" y="576108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193"/>
          <p:cNvSpPr/>
          <p:nvPr/>
        </p:nvSpPr>
        <p:spPr>
          <a:xfrm>
            <a:off x="7704000" y="6121440"/>
            <a:ext cx="1224000" cy="21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ЛАБОРАТОРИЈА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Text Box 199"/>
          <p:cNvSpPr/>
          <p:nvPr/>
        </p:nvSpPr>
        <p:spPr>
          <a:xfrm>
            <a:off x="0" y="6986520"/>
            <a:ext cx="144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Times"/>
              </a:rPr>
              <a:t>Izdanie  11/2012/07/15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200"/>
          <p:cNvSpPr/>
          <p:nvPr/>
        </p:nvSpPr>
        <p:spPr>
          <a:xfrm>
            <a:off x="4248000" y="5977080"/>
            <a:ext cx="93672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ТЕХНИЧКО ОДДЕЛЕНИЕ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Line 203"/>
          <p:cNvSpPr/>
          <p:nvPr/>
        </p:nvSpPr>
        <p:spPr>
          <a:xfrm>
            <a:off x="10009080" y="1655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217"/>
          <p:cNvSpPr/>
          <p:nvPr/>
        </p:nvSpPr>
        <p:spPr>
          <a:xfrm>
            <a:off x="9389160" y="0"/>
            <a:ext cx="50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800" spc="-1" strike="noStrike">
                <a:solidFill>
                  <a:srgbClr val="ffffff"/>
                </a:solidFill>
                <a:latin typeface="Verdana"/>
              </a:rPr>
              <a:t>П 5.</a:t>
            </a: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mk-MK" sz="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219"/>
          <p:cNvSpPr/>
          <p:nvPr/>
        </p:nvSpPr>
        <p:spPr>
          <a:xfrm>
            <a:off x="1800360" y="4896000"/>
            <a:ext cx="93636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HNI^KO ODDELENI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Line 221"/>
          <p:cNvSpPr/>
          <p:nvPr/>
        </p:nvSpPr>
        <p:spPr>
          <a:xfrm>
            <a:off x="1727280" y="5040360"/>
            <a:ext cx="7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Line 223"/>
          <p:cNvSpPr/>
          <p:nvPr/>
        </p:nvSpPr>
        <p:spPr>
          <a:xfrm>
            <a:off x="2952720" y="496872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Line 225"/>
          <p:cNvSpPr/>
          <p:nvPr/>
        </p:nvSpPr>
        <p:spPr>
          <a:xfrm>
            <a:off x="1440000" y="43164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Line 226"/>
          <p:cNvSpPr/>
          <p:nvPr/>
        </p:nvSpPr>
        <p:spPr>
          <a:xfrm>
            <a:off x="5472000" y="136836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Text Box 228"/>
          <p:cNvSpPr/>
          <p:nvPr/>
        </p:nvSpPr>
        <p:spPr>
          <a:xfrm>
            <a:off x="287280" y="4680000"/>
            <a:ext cx="1079640" cy="2440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000" spc="-1" strike="noStrike">
                <a:solidFill>
                  <a:srgbClr val="ffffff"/>
                </a:solidFill>
                <a:latin typeface="MAC C Swiss"/>
              </a:rPr>
              <a:t>ОДДЕЛЕНИЈА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229"/>
          <p:cNvSpPr/>
          <p:nvPr/>
        </p:nvSpPr>
        <p:spPr>
          <a:xfrm>
            <a:off x="4753080" y="216000"/>
            <a:ext cx="7189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mk-MK" sz="1100" spc="-1" strike="noStrike">
                <a:solidFill>
                  <a:srgbClr val="ffffff"/>
                </a:solidFill>
                <a:latin typeface="MAC C Swiss"/>
              </a:rPr>
              <a:t>РЗЗС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Line 232"/>
          <p:cNvSpPr/>
          <p:nvPr/>
        </p:nvSpPr>
        <p:spPr>
          <a:xfrm>
            <a:off x="5688000" y="792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236"/>
          <p:cNvSpPr/>
          <p:nvPr/>
        </p:nvSpPr>
        <p:spPr>
          <a:xfrm>
            <a:off x="5111640" y="194472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FINANSOVA</a:t>
            </a:r>
            <a:r>
              <a:rPr b="1" lang="en-US" sz="800" spc="-1" strike="noStrike">
                <a:solidFill>
                  <a:srgbClr val="ffffff"/>
                </a:solidFill>
                <a:latin typeface="MAC C Swiss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OPERATIV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37"/>
          <p:cNvSpPr/>
          <p:nvPr/>
        </p:nvSpPr>
        <p:spPr>
          <a:xfrm>
            <a:off x="5111640" y="230508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SMETKOVODSTVO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38"/>
          <p:cNvSpPr/>
          <p:nvPr/>
        </p:nvSpPr>
        <p:spPr>
          <a:xfrm>
            <a:off x="5111640" y="266400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KOMERCIJ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239"/>
          <p:cNvSpPr/>
          <p:nvPr/>
        </p:nvSpPr>
        <p:spPr>
          <a:xfrm>
            <a:off x="5111640" y="302436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UVOZ - IZVOZ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240"/>
          <p:cNvSpPr/>
          <p:nvPr/>
        </p:nvSpPr>
        <p:spPr>
          <a:xfrm>
            <a:off x="5111640" y="3384720"/>
            <a:ext cx="15130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LAN I ANALIZ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50"/>
          <p:cNvSpPr/>
          <p:nvPr/>
        </p:nvSpPr>
        <p:spPr>
          <a:xfrm>
            <a:off x="8569440" y="1584360"/>
            <a:ext cx="1295280" cy="244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MAC C Times"/>
              </a:rPr>
              <a:t>IKT CENTAR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254"/>
          <p:cNvSpPr/>
          <p:nvPr/>
        </p:nvSpPr>
        <p:spPr>
          <a:xfrm>
            <a:off x="7201080" y="3313080"/>
            <a:ext cx="10792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IMOTNI ODNOS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Text Box 257"/>
          <p:cNvSpPr/>
          <p:nvPr/>
        </p:nvSpPr>
        <p:spPr>
          <a:xfrm>
            <a:off x="1727280" y="2016000"/>
            <a:ext cx="936720" cy="57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MARKETING, IN@ENERINGNADVORE[EN PAZA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258"/>
          <p:cNvSpPr/>
          <p:nvPr/>
        </p:nvSpPr>
        <p:spPr>
          <a:xfrm>
            <a:off x="1727280" y="2736720"/>
            <a:ext cx="1081080" cy="456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TEHNOLO</a:t>
            </a: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Ш</a:t>
            </a: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KO DINAMI^KI PLANOV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Text Box 259"/>
          <p:cNvSpPr/>
          <p:nvPr/>
        </p:nvSpPr>
        <p:spPr>
          <a:xfrm>
            <a:off x="3311640" y="3313080"/>
            <a:ext cx="93636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RAZLIKA VO CEN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265"/>
          <p:cNvSpPr/>
          <p:nvPr/>
        </p:nvSpPr>
        <p:spPr>
          <a:xfrm>
            <a:off x="1584360" y="2952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Line 267"/>
          <p:cNvSpPr/>
          <p:nvPr/>
        </p:nvSpPr>
        <p:spPr>
          <a:xfrm>
            <a:off x="4824360" y="1871640"/>
            <a:ext cx="0" cy="1657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Line 268"/>
          <p:cNvSpPr/>
          <p:nvPr/>
        </p:nvSpPr>
        <p:spPr>
          <a:xfrm>
            <a:off x="4824360" y="35290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Line 269"/>
          <p:cNvSpPr/>
          <p:nvPr/>
        </p:nvSpPr>
        <p:spPr>
          <a:xfrm>
            <a:off x="4824360" y="3168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Line 270"/>
          <p:cNvSpPr/>
          <p:nvPr/>
        </p:nvSpPr>
        <p:spPr>
          <a:xfrm>
            <a:off x="4824360" y="2736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Line 271"/>
          <p:cNvSpPr/>
          <p:nvPr/>
        </p:nvSpPr>
        <p:spPr>
          <a:xfrm>
            <a:off x="4824360" y="2448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Line 272"/>
          <p:cNvSpPr/>
          <p:nvPr/>
        </p:nvSpPr>
        <p:spPr>
          <a:xfrm>
            <a:off x="4824360" y="2087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273"/>
          <p:cNvSpPr/>
          <p:nvPr/>
        </p:nvSpPr>
        <p:spPr>
          <a:xfrm>
            <a:off x="6912000" y="194472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Line 274"/>
          <p:cNvSpPr/>
          <p:nvPr/>
        </p:nvSpPr>
        <p:spPr>
          <a:xfrm>
            <a:off x="6912000" y="35290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Line 275"/>
          <p:cNvSpPr/>
          <p:nvPr/>
        </p:nvSpPr>
        <p:spPr>
          <a:xfrm>
            <a:off x="6912000" y="3024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Line 276"/>
          <p:cNvSpPr/>
          <p:nvPr/>
        </p:nvSpPr>
        <p:spPr>
          <a:xfrm>
            <a:off x="6912000" y="2592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77"/>
          <p:cNvSpPr/>
          <p:nvPr/>
        </p:nvSpPr>
        <p:spPr>
          <a:xfrm>
            <a:off x="6912000" y="2160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Line 278"/>
          <p:cNvSpPr/>
          <p:nvPr/>
        </p:nvSpPr>
        <p:spPr>
          <a:xfrm>
            <a:off x="1440000" y="1368360"/>
            <a:ext cx="864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Line 279"/>
          <p:cNvSpPr/>
          <p:nvPr/>
        </p:nvSpPr>
        <p:spPr>
          <a:xfrm>
            <a:off x="2952720" y="1512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Line 281"/>
          <p:cNvSpPr/>
          <p:nvPr/>
        </p:nvSpPr>
        <p:spPr>
          <a:xfrm>
            <a:off x="5977080" y="1512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Line 283"/>
          <p:cNvSpPr/>
          <p:nvPr/>
        </p:nvSpPr>
        <p:spPr>
          <a:xfrm>
            <a:off x="7848720" y="1512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Line 284"/>
          <p:cNvSpPr/>
          <p:nvPr/>
        </p:nvSpPr>
        <p:spPr>
          <a:xfrm>
            <a:off x="9217080" y="1512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285"/>
          <p:cNvSpPr/>
          <p:nvPr/>
        </p:nvSpPr>
        <p:spPr>
          <a:xfrm>
            <a:off x="8785080" y="2087640"/>
            <a:ext cx="1079640" cy="57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SISTEMSKI INTEGRACII I KOMPJUTERSKI MRE@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Text Box 286"/>
          <p:cNvSpPr/>
          <p:nvPr/>
        </p:nvSpPr>
        <p:spPr>
          <a:xfrm>
            <a:off x="8785080" y="3024360"/>
            <a:ext cx="1079640" cy="57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ADMINISTRIRAWE NA BAZI NA PODATOCI I PODDR[K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Text Box 288"/>
          <p:cNvSpPr/>
          <p:nvPr/>
        </p:nvSpPr>
        <p:spPr>
          <a:xfrm>
            <a:off x="3311640" y="1944720"/>
            <a:ext cx="10792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IPREMA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Text Box 289"/>
          <p:cNvSpPr/>
          <p:nvPr/>
        </p:nvSpPr>
        <p:spPr>
          <a:xfrm>
            <a:off x="3311640" y="2232000"/>
            <a:ext cx="107928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MARKETING I IN@ENERING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293"/>
          <p:cNvSpPr/>
          <p:nvPr/>
        </p:nvSpPr>
        <p:spPr>
          <a:xfrm>
            <a:off x="7201080" y="2087640"/>
            <a:ext cx="1079280" cy="21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AVNI RABOT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Text Box 294"/>
          <p:cNvSpPr/>
          <p:nvPr/>
        </p:nvSpPr>
        <p:spPr>
          <a:xfrm>
            <a:off x="7201080" y="2376360"/>
            <a:ext cx="107928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OP[TI RABOTI I ^OVE^KI RESURSI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295"/>
          <p:cNvSpPr/>
          <p:nvPr/>
        </p:nvSpPr>
        <p:spPr>
          <a:xfrm>
            <a:off x="7201080" y="2879640"/>
            <a:ext cx="107928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BEZBEDNOST I ZDRAVJE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Line 296"/>
          <p:cNvSpPr/>
          <p:nvPr/>
        </p:nvSpPr>
        <p:spPr>
          <a:xfrm>
            <a:off x="8569440" y="187164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Line 297"/>
          <p:cNvSpPr/>
          <p:nvPr/>
        </p:nvSpPr>
        <p:spPr>
          <a:xfrm>
            <a:off x="8569440" y="2448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Line 298"/>
          <p:cNvSpPr/>
          <p:nvPr/>
        </p:nvSpPr>
        <p:spPr>
          <a:xfrm>
            <a:off x="8569440" y="338472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Line 299"/>
          <p:cNvSpPr/>
          <p:nvPr/>
        </p:nvSpPr>
        <p:spPr>
          <a:xfrm>
            <a:off x="5688000" y="1224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Text Box 300"/>
          <p:cNvSpPr/>
          <p:nvPr/>
        </p:nvSpPr>
        <p:spPr>
          <a:xfrm>
            <a:off x="3311640" y="2664000"/>
            <a:ext cx="1079280" cy="33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NADVORE</a:t>
            </a:r>
            <a:r>
              <a:rPr b="0" lang="mk-MK" sz="800" spc="-1" strike="noStrike">
                <a:solidFill>
                  <a:srgbClr val="ffffff"/>
                </a:solidFill>
                <a:latin typeface="MAC C Swiss"/>
              </a:rPr>
              <a:t>Ш</a:t>
            </a: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EN PAZAR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Line 301"/>
          <p:cNvSpPr/>
          <p:nvPr/>
        </p:nvSpPr>
        <p:spPr>
          <a:xfrm>
            <a:off x="2664000" y="23050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Line 302"/>
          <p:cNvSpPr/>
          <p:nvPr/>
        </p:nvSpPr>
        <p:spPr>
          <a:xfrm>
            <a:off x="3024360" y="2016000"/>
            <a:ext cx="0" cy="12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303"/>
          <p:cNvSpPr/>
          <p:nvPr/>
        </p:nvSpPr>
        <p:spPr>
          <a:xfrm>
            <a:off x="3024360" y="2808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Line 304"/>
          <p:cNvSpPr/>
          <p:nvPr/>
        </p:nvSpPr>
        <p:spPr>
          <a:xfrm>
            <a:off x="3024360" y="2376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Line 305"/>
          <p:cNvSpPr/>
          <p:nvPr/>
        </p:nvSpPr>
        <p:spPr>
          <a:xfrm>
            <a:off x="3024360" y="2016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Line 306"/>
          <p:cNvSpPr/>
          <p:nvPr/>
        </p:nvSpPr>
        <p:spPr>
          <a:xfrm>
            <a:off x="1584360" y="1871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Line 311"/>
          <p:cNvSpPr/>
          <p:nvPr/>
        </p:nvSpPr>
        <p:spPr>
          <a:xfrm>
            <a:off x="5040360" y="3887640"/>
            <a:ext cx="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Line 312"/>
          <p:cNvSpPr/>
          <p:nvPr/>
        </p:nvSpPr>
        <p:spPr>
          <a:xfrm>
            <a:off x="2087640" y="18716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Line 314"/>
          <p:cNvSpPr/>
          <p:nvPr/>
        </p:nvSpPr>
        <p:spPr>
          <a:xfrm flipV="1">
            <a:off x="1584360" y="187128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Line 316"/>
          <p:cNvSpPr/>
          <p:nvPr/>
        </p:nvSpPr>
        <p:spPr>
          <a:xfrm>
            <a:off x="3024360" y="331308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Line 317"/>
          <p:cNvSpPr/>
          <p:nvPr/>
        </p:nvSpPr>
        <p:spPr>
          <a:xfrm>
            <a:off x="2232000" y="259236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Line 319"/>
          <p:cNvSpPr/>
          <p:nvPr/>
        </p:nvSpPr>
        <p:spPr>
          <a:xfrm>
            <a:off x="6769080" y="2448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Line 320"/>
          <p:cNvSpPr/>
          <p:nvPr/>
        </p:nvSpPr>
        <p:spPr>
          <a:xfrm>
            <a:off x="6624720" y="244800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Line 321"/>
          <p:cNvSpPr/>
          <p:nvPr/>
        </p:nvSpPr>
        <p:spPr>
          <a:xfrm>
            <a:off x="6624720" y="35290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Line 322"/>
          <p:cNvSpPr/>
          <p:nvPr/>
        </p:nvSpPr>
        <p:spPr>
          <a:xfrm>
            <a:off x="5832360" y="287964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1511280" y="720720"/>
            <a:ext cx="1728720" cy="251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MAC C Swiss"/>
              </a:rPr>
              <a:t>VNATRE[NA</a:t>
            </a:r>
            <a:r>
              <a:rPr b="1" lang="mk-MK" sz="1000" spc="-1" strike="noStrike">
                <a:solidFill>
                  <a:srgbClr val="ff0000"/>
                </a:solidFill>
                <a:latin typeface="MAC C Swiss"/>
              </a:rPr>
              <a:t> РЕВИЗИЈА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Line 20"/>
          <p:cNvSpPr/>
          <p:nvPr/>
        </p:nvSpPr>
        <p:spPr>
          <a:xfrm>
            <a:off x="3240000" y="863640"/>
            <a:ext cx="24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5688000" y="86364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Line 296"/>
          <p:cNvSpPr/>
          <p:nvPr/>
        </p:nvSpPr>
        <p:spPr>
          <a:xfrm>
            <a:off x="7777080" y="863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Line 277"/>
          <p:cNvSpPr/>
          <p:nvPr/>
        </p:nvSpPr>
        <p:spPr>
          <a:xfrm>
            <a:off x="7777080" y="1152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 Box 17"/>
          <p:cNvSpPr/>
          <p:nvPr/>
        </p:nvSpPr>
        <p:spPr>
          <a:xfrm>
            <a:off x="7920000" y="936720"/>
            <a:ext cx="1944720" cy="555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7b8f9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MAC C Swiss"/>
              </a:rPr>
              <a:t>STRU^NO LICE  za Bezbednost i zdravje pri rabota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Text Box 200"/>
          <p:cNvSpPr/>
          <p:nvPr/>
        </p:nvSpPr>
        <p:spPr>
          <a:xfrm>
            <a:off x="4248000" y="6408720"/>
            <a:ext cx="1079640" cy="335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MAC C Swiss"/>
              </a:rPr>
              <a:t>PROIZVODSTVO NA   ASFALT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Line 177"/>
          <p:cNvSpPr/>
          <p:nvPr/>
        </p:nvSpPr>
        <p:spPr>
          <a:xfrm>
            <a:off x="4103640" y="65530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07:17:43Z</dcterms:created>
  <dc:creator>Beton</dc:creator>
  <dc:description/>
  <dc:language>en-US</dc:language>
  <cp:lastModifiedBy>zoran.mihajlovic</cp:lastModifiedBy>
  <dcterms:modified xsi:type="dcterms:W3CDTF">2012-07-12T10:49:42Z</dcterms:modified>
  <cp:revision>63</cp:revision>
  <dc:subject/>
  <dc:title>Slide 1</dc:title>
</cp:coreProperties>
</file>